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carbrake.wav" ContentType="audio/x-wav"/>
  <Override PartName="/ppt/media/image14.jpeg" ContentType="image/jpe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3.jpeg" ContentType="image/jpeg"/>
  <Override PartName="/ppt/media/image15.png" ContentType="image/png"/>
  <Override PartName="/ppt/media/image24.wmf" ContentType="image/x-wmf"/>
  <Override PartName="/ppt/media/image13.png" ContentType="image/png"/>
  <Override PartName="/ppt/media/image23.wmf" ContentType="image/x-wmf"/>
  <Override PartName="/ppt/media/image22.wmf" ContentType="image/x-wmf"/>
  <Override PartName="/ppt/media/image20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CCB-A8EC-43F9-B2E9-4527DC37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423-9436-4D87-97CA-9003AD3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4E8-9AB2-47BC-B8BB-B1B025E6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061-2BAF-4210-A462-8ED693DA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35F-7B25-4ED1-80F9-177B9D1C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FB7-0AE3-463D-89AB-73DAD589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B19-D3C2-4F10-9D6A-28DBA7A3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312-29F4-4B80-972D-276539C3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BB9-CF49-4D04-A2B4-079E36E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1B7-FE58-4B47-88B6-40E8E597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876-4F6B-495C-9864-E9F52305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F1F-82B3-4662-880F-4F4CAAD9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364-B202-4016-BAC2-6CEF6530E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 result for nutrition"/>
          <p:cNvPicPr/>
          <p:nvPr/>
        </p:nvPicPr>
        <p:blipFill>
          <a:blip r:embed="rId1"/>
          <a:stretch/>
        </p:blipFill>
        <p:spPr>
          <a:xfrm>
            <a:off x="685800" y="91440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80880" y="457200"/>
            <a:ext cx="6324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Finch Stick"/>
              </a:rPr>
              <a:t>One of the most important things you can do for your body and mind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Finch Stick"/>
              </a:rPr>
              <a:t>1. Be physically active each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mage result for physically active"/>
          <p:cNvPicPr/>
          <p:nvPr/>
        </p:nvPicPr>
        <p:blipFill>
          <a:blip r:embed="rId1"/>
          <a:stretch/>
        </p:blipFill>
        <p:spPr>
          <a:xfrm>
            <a:off x="5661000" y="2365200"/>
            <a:ext cx="3371760" cy="179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Image result for physically active"/>
          <p:cNvPicPr/>
          <p:nvPr/>
        </p:nvPicPr>
        <p:blipFill>
          <a:blip r:embed="rId2"/>
          <a:stretch/>
        </p:blipFill>
        <p:spPr>
          <a:xfrm>
            <a:off x="2857680" y="22464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Image result for physically active"/>
          <p:cNvPicPr/>
          <p:nvPr/>
        </p:nvPicPr>
        <p:blipFill>
          <a:blip r:embed="rId3"/>
          <a:stretch/>
        </p:blipFill>
        <p:spPr>
          <a:xfrm>
            <a:off x="5791320" y="468000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Image result for physically active"/>
          <p:cNvPicPr/>
          <p:nvPr/>
        </p:nvPicPr>
        <p:blipFill>
          <a:blip r:embed="rId4"/>
          <a:stretch/>
        </p:blipFill>
        <p:spPr>
          <a:xfrm>
            <a:off x="6489720" y="24768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Image result for physically active"/>
          <p:cNvPicPr/>
          <p:nvPr/>
        </p:nvPicPr>
        <p:blipFill>
          <a:blip r:embed="rId5"/>
          <a:stretch/>
        </p:blipFill>
        <p:spPr>
          <a:xfrm>
            <a:off x="3095640" y="423216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Image result for walking the dog"/>
          <p:cNvPicPr/>
          <p:nvPr/>
        </p:nvPicPr>
        <p:blipFill>
          <a:blip r:embed="rId6"/>
          <a:stretch/>
        </p:blipFill>
        <p:spPr>
          <a:xfrm>
            <a:off x="380880" y="2482920"/>
            <a:ext cx="2502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airy"/>
          <p:cNvPicPr/>
          <p:nvPr/>
        </p:nvPicPr>
        <p:blipFill>
          <a:blip r:embed="rId1"/>
          <a:stretch/>
        </p:blipFill>
        <p:spPr>
          <a:xfrm>
            <a:off x="6669000" y="122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FD00997_"/>
          <p:cNvPicPr/>
          <p:nvPr/>
        </p:nvPicPr>
        <p:blipFill>
          <a:blip r:embed="rId2"/>
          <a:stretch/>
        </p:blipFill>
        <p:spPr>
          <a:xfrm>
            <a:off x="6669000" y="1370160"/>
            <a:ext cx="2514600" cy="346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D01038_"/>
          <p:cNvPicPr/>
          <p:nvPr/>
        </p:nvPicPr>
        <p:blipFill>
          <a:blip r:embed="rId3"/>
          <a:stretch/>
        </p:blipFill>
        <p:spPr>
          <a:xfrm>
            <a:off x="5713560" y="3081240"/>
            <a:ext cx="3809880" cy="1731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274680" y="228600"/>
            <a:ext cx="5943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e a healthy eating pattern that accounts for all foods and beverages within an appropriate calorie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ety of vegetables from all of the subgroups—dark green, red and orange, legumes (beans and peas), starchy, and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uits, especially whole fr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s, at least half of which are whole 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-free or low-fat dairy, including milk, yogurt, cheese, and/or fortified soy bever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ety of protein foods, including seafood, lean meats and poultry, eggs, legumes (beans and peas), and nuts, seeds, and soy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ls (olive is the b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healthy eating pattern limits: Sugars, Sodium and Trans f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j0130493"/>
          <p:cNvPicPr/>
          <p:nvPr/>
        </p:nvPicPr>
        <p:blipFill>
          <a:blip r:embed="rId4"/>
          <a:stretch/>
        </p:blipFill>
        <p:spPr>
          <a:xfrm>
            <a:off x="3303720" y="5300640"/>
            <a:ext cx="8874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D01976_"/>
          <p:cNvPicPr/>
          <p:nvPr/>
        </p:nvPicPr>
        <p:blipFill>
          <a:blip r:embed="rId5"/>
          <a:stretch/>
        </p:blipFill>
        <p:spPr>
          <a:xfrm>
            <a:off x="5254560" y="4943520"/>
            <a:ext cx="96372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j0251523"/>
          <p:cNvPicPr/>
          <p:nvPr/>
        </p:nvPicPr>
        <p:blipFill>
          <a:blip r:embed="rId6"/>
          <a:stretch/>
        </p:blipFill>
        <p:spPr>
          <a:xfrm>
            <a:off x="496800" y="5748480"/>
            <a:ext cx="789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DJ Finch Stick"/>
              </a:rPr>
              <a:t>What Is Nutriti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5800" y="2514600"/>
            <a:ext cx="335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Finch Stick"/>
              </a:rPr>
              <a:t>-The study of how your body uses the food that you e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Image result for nutrition"/>
          <p:cNvPicPr/>
          <p:nvPr/>
        </p:nvPicPr>
        <p:blipFill>
          <a:blip r:embed="rId1"/>
          <a:stretch/>
        </p:blipFill>
        <p:spPr>
          <a:xfrm>
            <a:off x="4267080" y="1827360"/>
            <a:ext cx="45720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0"/>
          <p:cNvSpPr/>
          <p:nvPr/>
        </p:nvSpPr>
        <p:spPr>
          <a:xfrm>
            <a:off x="1828800" y="439560"/>
            <a:ext cx="565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DJ Classic"/>
              </a:rPr>
              <a:t>What is a </a:t>
            </a:r>
            <a:r>
              <a:rPr b="1" lang="en-US" sz="4800" spc="-1" strike="noStrike">
                <a:solidFill>
                  <a:srgbClr val="000000"/>
                </a:solidFill>
                <a:latin typeface="DJ Finch Stick"/>
              </a:rPr>
              <a:t>Nutri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533520" y="1281240"/>
            <a:ext cx="6437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A nutrient is a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chemical substance 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in food that helps maintain the body. Some provide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energy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.  All help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build cells 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tissues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, regulate bodily processes such as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breathing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.  No single food supplies all the nutrients the body needs to fun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Image result for nutrient molecules"/>
          <p:cNvPicPr/>
          <p:nvPr/>
        </p:nvPicPr>
        <p:blipFill>
          <a:blip r:embed="rId1"/>
          <a:stretch/>
        </p:blipFill>
        <p:spPr>
          <a:xfrm>
            <a:off x="5029200" y="4343400"/>
            <a:ext cx="32608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62120" y="609480"/>
            <a:ext cx="7905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DJ Finch Stick"/>
              </a:rPr>
              <a:t>The six Classifications of Nutrient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DJ Finch Stick"/>
              <a:ea typeface="DJ Finch Sti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43520" y="2344680"/>
            <a:ext cx="430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Vitam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Carbohydrates</a:t>
            </a:r>
            <a:r>
              <a:rPr b="0" lang="en-US" sz="4000" spc="-1" strike="noStrike">
                <a:solidFill>
                  <a:srgbClr val="ffffff"/>
                </a:solidFill>
                <a:latin typeface="DJ Class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4648320" y="44956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648320" y="51814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72000" y="5410080"/>
            <a:ext cx="9907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6386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DJ Finch Stick"/>
              </a:rPr>
              <a:t>Sug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791320" y="4800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DJ Finch Stick"/>
              </a:rPr>
              <a:t>Star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715000" y="5562720"/>
            <a:ext cx="21337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DJ Finch Stick"/>
              </a:rPr>
              <a:t>Cellulose </a:t>
            </a:r>
            <a:r>
              <a:rPr b="0" lang="en-US" sz="1200" spc="-1" strike="noStrike">
                <a:solidFill>
                  <a:srgbClr val="ffffff"/>
                </a:solidFill>
                <a:latin typeface="DJ Finch Stick"/>
              </a:rPr>
              <a:t>(fiber ,undigestable, impor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838080" y="54864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F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 flipV="1" rot="10800000">
            <a:off x="533520" y="513720"/>
            <a:ext cx="7696080" cy="43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DJ Finch Stick"/>
              </a:rPr>
              <a:t>Nutrients that have Calori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F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Image result for nutrients"/>
          <p:cNvPicPr/>
          <p:nvPr/>
        </p:nvPicPr>
        <p:blipFill>
          <a:blip r:embed="rId1"/>
          <a:stretch/>
        </p:blipFill>
        <p:spPr>
          <a:xfrm>
            <a:off x="4267080" y="114300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alori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age result for calorie"/>
          <p:cNvPicPr/>
          <p:nvPr/>
        </p:nvPicPr>
        <p:blipFill>
          <a:blip r:embed="rId1"/>
          <a:stretch/>
        </p:blipFill>
        <p:spPr>
          <a:xfrm>
            <a:off x="76320" y="395280"/>
            <a:ext cx="5486400" cy="593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age result for pants too tight"/>
          <p:cNvPicPr/>
          <p:nvPr/>
        </p:nvPicPr>
        <p:blipFill>
          <a:blip r:embed="rId2"/>
          <a:stretch/>
        </p:blipFill>
        <p:spPr>
          <a:xfrm>
            <a:off x="5867280" y="395280"/>
            <a:ext cx="2816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5800" y="914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DJ Finch Stick"/>
              </a:rPr>
              <a:t>Definition of a Calori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762120" y="1793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DJ Finch Sti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DJ Finch Stick"/>
              </a:rPr>
              <a:t>A unit of measure for energy in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Image result for unit of measurement"/>
          <p:cNvPicPr/>
          <p:nvPr/>
        </p:nvPicPr>
        <p:blipFill>
          <a:blip r:embed="rId1"/>
          <a:stretch/>
        </p:blipFill>
        <p:spPr>
          <a:xfrm>
            <a:off x="990720" y="2728800"/>
            <a:ext cx="716256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80880" y="533520"/>
            <a:ext cx="838224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J Finch Stick"/>
              </a:rPr>
              <a:t>Variables which affect nutrient nee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1. 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2. Gen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3. Activity Lev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4. Clim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5. Heal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6. State of 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oldman"/>
          <p:cNvPicPr/>
          <p:nvPr/>
        </p:nvPicPr>
        <p:blipFill>
          <a:blip r:embed="rId1"/>
          <a:stretch/>
        </p:blipFill>
        <p:spPr>
          <a:xfrm>
            <a:off x="2590920" y="1447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family"/>
          <p:cNvPicPr/>
          <p:nvPr/>
        </p:nvPicPr>
        <p:blipFill>
          <a:blip r:embed="rId2"/>
          <a:stretch/>
        </p:blipFill>
        <p:spPr>
          <a:xfrm>
            <a:off x="3581280" y="19810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exercise2"/>
          <p:cNvPicPr/>
          <p:nvPr/>
        </p:nvPicPr>
        <p:blipFill>
          <a:blip r:embed="rId3"/>
          <a:stretch/>
        </p:blipFill>
        <p:spPr>
          <a:xfrm>
            <a:off x="4648320" y="25909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loud"/>
          <p:cNvPicPr/>
          <p:nvPr/>
        </p:nvPicPr>
        <p:blipFill>
          <a:blip r:embed="rId4"/>
          <a:stretch/>
        </p:blipFill>
        <p:spPr>
          <a:xfrm>
            <a:off x="5562720" y="3124080"/>
            <a:ext cx="1463400" cy="146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sun"/>
          <p:cNvPicPr/>
          <p:nvPr/>
        </p:nvPicPr>
        <p:blipFill>
          <a:blip r:embed="rId5"/>
          <a:stretch/>
        </p:blipFill>
        <p:spPr>
          <a:xfrm>
            <a:off x="6553080" y="40384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sickperson"/>
          <p:cNvPicPr/>
          <p:nvPr/>
        </p:nvPicPr>
        <p:blipFill>
          <a:blip r:embed="rId6"/>
          <a:stretch/>
        </p:blipFill>
        <p:spPr>
          <a:xfrm>
            <a:off x="7391520" y="502920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9:35:41Z</dcterms:created>
  <dc:creator>inst</dc:creator>
  <dc:description/>
  <dc:language>en-US</dc:language>
  <cp:lastModifiedBy>Daly Dominguez</cp:lastModifiedBy>
  <dcterms:modified xsi:type="dcterms:W3CDTF">2016-09-29T00:46:20Z</dcterms:modified>
  <cp:revision>17</cp:revision>
  <dc:subject/>
  <dc:title>PowerPoint Presentation</dc:title>
</cp:coreProperties>
</file>